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778-6471-4A1B-B0C4-6DE8FEA3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66B-67F1-4701-882A-6040A84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AA6-A9F8-4FB8-B8FB-364E215C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86F-FC3F-4A66-9F98-61F777B8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732F-479A-48C7-B2F6-DC41FD0F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57DB-D5F2-4D67-84DF-30D0E8E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BED9-DB53-464A-B7D6-0EB1532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503B-E39A-4716-94F0-B00FC63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4BEA-BDEA-42A6-923A-253BDD6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9A3-D09C-4DCA-9118-4AC5A5F1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C90D-7038-406D-9317-4786F7A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2E1-78E4-423F-A459-D65E87C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AEA7-9336-45A7-974C-EDF9AB0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BB9-7C12-4097-A0CD-D6A3233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6089-FCB1-4ECD-9E58-4E0D3F7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3A2E-236B-42F2-B294-F21D6449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9025-AEC1-4B26-806C-52615A34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E1BA-938A-4475-940A-96D3B562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F1DD-770F-4096-B874-3705CE6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7586-E12E-4CA1-B046-92070B98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E39D-039F-4134-9C18-90D076B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8D80-5AB0-4727-921E-08E6BD6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C2A-2C24-4FD6-9B91-1FFA8DC5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40B3-2B92-4B82-A632-F75E2F2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6752-1264-47BD-A004-DCE454D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64F0-3B60-4D2A-BD6C-F80DF96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9CB2-1EAC-445D-8C39-095167D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82EC-2A0F-4925-8185-E4437DC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28E7-0AC0-42F3-99FB-79E54441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61F8-CF54-44EF-BEE8-2A8DD29B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6946-38B2-4FAB-A2C1-86F02F2D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5ABD-9E70-456F-B29E-74C7D471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581F-C89F-45CE-ABA8-4678BA0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170-D015-4A39-944D-8A2220C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C25D-5074-4322-A9FA-C0762F93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0324-7598-48A5-B56C-C8C2F94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0A7B-1CA0-4C2D-A35C-4893238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1FFB-A15E-48C3-8270-419DC2B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E185-3971-4AC9-92F7-329AA01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E23E-3653-4FC6-A21B-8C300F7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B299-83AC-4A03-A889-D1EDC92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8AD5-8F52-419A-B795-7588C2D4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3E14-1AFF-4428-BC37-5C88E56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618-75C2-40F1-A965-23FC0A4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B4D-9746-4DC7-BF67-D317457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0E6-64F8-4FAF-B705-A478CA3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118-BAF6-42E2-A4EC-7859C88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C86-BB60-465F-BB84-2A8A7E9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7DBF-16B4-46A0-B5D7-8EC00DADA1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D3A-3EB9-4BEF-8610-AA980821B0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B65-63E9-4DCC-A271-6E8152A74F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D1C9-88FB-4B34-99C1-EE3BC76EF4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06520"/>
            <a:ext cx="7785000" cy="116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114800" y="19810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WATER CYCLE there are four part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PRECIPITATION into INFILTRATI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t all EVAPORTATES becoming CONDENSATION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the WATER CYCLE starts over again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water cycle for kids. In summary, the Water Cycle"/>
          <p:cNvPicPr/>
          <p:nvPr/>
        </p:nvPicPr>
        <p:blipFill>
          <a:blip r:embed="rId2"/>
          <a:stretch/>
        </p:blipFill>
        <p:spPr>
          <a:xfrm>
            <a:off x="457200" y="2286000"/>
            <a:ext cx="333360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ItsyBitsySpider.mp3" descr=""/>
          <p:cNvPicPr/>
          <p:nvPr/>
        </p:nvPicPr>
        <p:blipFill>
          <a:blip r:embed="rId3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480060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tsy Bitsy Spider  (with Lyrics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8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0:21:15Z</dcterms:created>
  <dc:creator> </dc:creator>
  <dc:description/>
  <dc:language>en-US</dc:language>
  <cp:lastModifiedBy> </cp:lastModifiedBy>
  <dcterms:modified xsi:type="dcterms:W3CDTF">2012-02-20T20:45:09Z</dcterms:modified>
  <cp:revision>4</cp:revision>
  <dc:subject/>
  <dc:title>The Water Cycle </dc:title>
</cp:coreProperties>
</file>